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chimes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947-1081-4D01-97FD-BBB98C32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7BB-97DB-4F26-BF08-B3487047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112-3E5C-4745-AD47-EEF02841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5C1-5B49-4529-B7FE-DEFCD78F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451-7A19-4257-99E0-5BD49CC8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5BCD-ED65-45FF-93C0-80F05847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E0DE-B175-4C34-B28E-FF364AD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543D-B193-4E47-A3DB-2EBB5D0A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ED62-B8CA-4A9E-A68A-B1AAB9FE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91A1-0E49-4A4A-85E2-E22D2BC3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9C4D-65F9-45BE-9D5B-7E3315B0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586-BE27-4B9E-950C-D0B654A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EC32-3FE8-4E22-A862-5C7F7546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40F9-E583-4FF5-91D6-26B0819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277-7494-411E-A275-A9ED055C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E19B-296D-454A-AC9D-59ADF066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BE54-E38C-4F70-99D9-E494F443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C51-E670-4F28-8D02-3A83B1F4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4E1-82EF-445E-B195-CF3C632F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0C9-9F04-43E9-946A-30DDA4EF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DAF-DA8C-41B1-89CB-79567B76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00A-CC8A-414A-84F7-9BA41FC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DA7-F4BC-441A-A8E5-8EA62197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882-9AF3-43DC-85CA-3E3C08E8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2f2e"/>
                </a:gs>
                <a:gs pos="50000">
                  <a:srgbClr val="00cc99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f2e"/>
                </a:gs>
                <a:gs pos="50000">
                  <a:srgbClr val="008080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f2e"/>
                </a:gs>
                <a:gs pos="50000">
                  <a:srgbClr val="008080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2f2e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525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080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525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080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BE5-D575-406A-AB12-B4BDA58B6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2f2e"/>
                </a:gs>
                <a:gs pos="50000">
                  <a:srgbClr val="00cc99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2f2e"/>
                </a:gs>
                <a:gs pos="50000">
                  <a:srgbClr val="008080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f2e"/>
                </a:gs>
                <a:gs pos="50000">
                  <a:srgbClr val="008080"/>
                </a:gs>
                <a:gs pos="100000">
                  <a:srgbClr val="002f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2f2e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525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080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005250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080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C4A-D9FE-4AC6-A5B1-0E06E9701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wmf"/><Relationship Id="rId4" Type="http://schemas.openxmlformats.org/officeDocument/2006/relationships/slide" Target="slide1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slide" Target="slide1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slide" Target="slide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2.wmf"/><Relationship Id="rId4" Type="http://schemas.openxmlformats.org/officeDocument/2006/relationships/slide" Target="slide2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wmf"/><Relationship Id="rId4" Type="http://schemas.openxmlformats.org/officeDocument/2006/relationships/slide" Target="slide3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3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wmf"/><Relationship Id="rId4" Type="http://schemas.openxmlformats.org/officeDocument/2006/relationships/slide" Target="slide4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image" Target="../media/image2.wmf"/><Relationship Id="rId4" Type="http://schemas.openxmlformats.org/officeDocument/2006/relationships/slide" Target="slide4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" Target="slide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flipH="1">
            <a:off x="7162560" y="762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4120" y="372600"/>
            <a:ext cx="3573360" cy="70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3300"/>
                </a:solidFill>
                <a:latin typeface="Seagull Hv BT"/>
              </a:rPr>
              <a:t>50x15 Bíblico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59092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Seagull Hv BT"/>
              </a:rPr>
              <a:t>BLOQUE 4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29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día creó Dios la lu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g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día creó Dios la lu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1:3-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37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7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pasó desde que Noé terminó el arca hasta que se desató el diluv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4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5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7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0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02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pasó desde que Noé terminó el arca hasta que se desató el diluv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4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50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7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43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3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pasó desde que Noé terminó el arca hasta que se desató el diluv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7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5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pasó desde que Noé terminó el arca hasta que se desató el diluv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7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pasó desde que Noé terminó el arca hasta que se desató el diluvi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7: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7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48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87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nombre puso Jacob al lugar donde soñó con una escalera que llegaba al ci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ben-e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100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il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se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18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nombre puso Jacob al lugar donde soñó con una escalera que llegaba al ci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ben-e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ilg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341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se sa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551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52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nombre puso Jacob al lugar donde soñó con una escalera que llegaba al ci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ben-e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0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sirvió como profeta durante el reinado de Darí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57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7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nombre puso Jacob al lugar donde soñó con una escalera que llegaba al ci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ben-ez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nombre puso Jacob al lugar donde soñó con una escalera que llegaba al ci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28:10-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599" name="SO0187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00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5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Jud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ex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32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Jud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exi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66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6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Jud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8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Jud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Jud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71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16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se encuentra entre Joel y Abdí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46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se encuentra entre Joel y Abdí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78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33520"/>
            <a:ext cx="946080" cy="834840"/>
          </a:xfrm>
          <a:prstGeom prst="rect">
            <a:avLst/>
          </a:prstGeom>
          <a:ln w="0">
            <a:noFill/>
          </a:ln>
        </p:spPr>
      </p:pic>
      <p:pic>
        <p:nvPicPr>
          <p:cNvPr id="781" name="DD00758_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761760" cy="66492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se encuentra entre Joel y Abdí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sirvió como profeta durante el reinado de Darí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g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9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se encuentra entre Joel y Abdí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se encuentra entre Joel y Abdí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827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28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dre e hijo fueron circuncidados el mismo dí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9528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m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193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a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ac y Jac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ac y Esa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8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59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dre e hijo fueron circuncidados el mismo dí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29528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m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a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ac y Jac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ac y Esa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89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93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dre e hijo fueron circuncidados el mismo dí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m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a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12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dre e hijo fueron circuncidados el mismo dí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m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21932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a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dre e hijo fueron circuncidados el mismo dí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17: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29528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 e Isma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94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44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hijos e hijas tuvo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Vei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74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hijos e hijas tuvo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Vei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00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09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hijos e hijas tuvo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Vei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37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7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1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sirvió como profeta durante el reinado de Darí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2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2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hijos e hijas tuvo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Vei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5800" y="175248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hijos e hijas tuvo Jo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715000" y="601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 1:2; 42: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Vei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061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62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6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anduvo Isaías desnudo y descal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5627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unca hizo 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92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anduvo Isaías desnudo y descal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me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5627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unca hizo 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12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27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anduvo Isaías desnudo y descal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627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unca hizo 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4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4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anduvo Isaías desnudo y descal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5627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unca hizo 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 tiempo anduvo Isaías desnudo y descalz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 añ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715000" y="601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 20: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17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77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7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tierra casi sacrificó Abraham a Isaa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m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ri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ers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07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08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tierra casi sacrificó Abraham a Isaa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m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ri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ers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241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42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tierra casi sacrificó Abraham a Isaa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ri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ers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9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875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sirvió como profeta durante el reinado de Darí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6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6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tierra casi sacrificó Abraham a Isaa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ri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erse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tierra casi sacrificó Abraham a Isaa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22: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ria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94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de la Biblia dice que el arcángel Miguel y el diablo disputaban por el cuerpo de Mois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uteronom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lo regi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2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de la Biblia dice que el arcángel Miguel y el diablo disputaban por el cuerpo de Mois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uteronom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lo regis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62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de la Biblia dice que el arcángel Miguel y el diablo disputaban por el cuerpo de Mois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uteronom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8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81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2" name="SO01872_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83" name="DD00758_" descr=""/>
          <p:cNvPicPr/>
          <p:nvPr/>
        </p:nvPicPr>
        <p:blipFill>
          <a:blip r:embed="rId6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8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de la Biblia dice que el arcángel Miguel y el diablo disputaban por el cuerpo de Mois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uteronom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de la Biblia dice que el arcángel Miguel y el diablo disputaban por el cuerpo de Mois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41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1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de la Biblia fue escrito por tres autores difer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over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2ª de Cró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341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4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de la Biblia fue escrito por tres autores difer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over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63868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2ª de Cró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3341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e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47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8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de la Biblia fue escrito por tres autores difer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over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sirvió como profeta durante el reinado de Darí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 6:1-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9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de la Biblia fue escrito por tres autores difer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over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de la Biblia fue escrito por tres autores diferent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62120" y="6019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omón, Agur y Lemuel. Proverbios 1:1; 30:1; 31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over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53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3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32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No temáis, estad firmes, y ved la salvación que Jehová hará hoy con vosotr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6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No temáis, estad firmes, y ved la salvación que Jehová hará hoy con vosotr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59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9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9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No temáis, estad firmes, y ved la salvación que Jehová hará hoy con vosotr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1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No temáis, estad firmes, y ved la salvación que Jehová hará hoy con  vosotr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No temáis, estad firmes, y ved la salvación que Jehová hará hoy con vosotr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2578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 14:1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64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47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escribió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ios es nuestro amparo y fortaleza, nuestro pronto auxilio en las tribulacione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3341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hijos de Co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3341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om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77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78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escribió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ios es nuestro amparo y fortaleza, nuestro pronto auxilio en las tribulacione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3341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hijos de Co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33412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om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71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12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1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escribió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ios es nuestro amparo y fortaleza, nuestro pronto auxilio en las tribulacione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3341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hijos de Co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22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23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día creó Dios la lu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g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erc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8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29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escribió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ios es nuestro amparo y fortaleza, nuestro pronto auxilio en las tribulacione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v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3341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hijos de Co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85800" y="175248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escribió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Dios es nuestro amparo y fortaleza, nuestro pronto auxilio en las tribulacione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 46 (Subtítu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334120" y="41148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hijos de Cor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75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6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61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de los cuatro evangelios dice que Jesús tiene “palabras de vida etern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9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9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de los cuatro evangelios dice que Jesús tiene “palabras de vida etern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182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2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de los cuatro evangelios dice que Jesús tiene “palabras de vida etern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4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de los cuatro evangelios dice que Jesús tiene “palabras de vida etern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de los cuatro evangelios dice que Jesús tiene “palabras de vida etern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 6: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33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63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día creó Dios la lu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g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erc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r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pic>
        <p:nvPicPr>
          <p:cNvPr id="30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03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día creó Dios la luz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im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g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8T20:52:56Z</dcterms:modified>
  <cp:revision>72</cp:revision>
  <dc:subject/>
  <dc:title>1.</dc:title>
</cp:coreProperties>
</file>