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251E-48CC-4A0D-B048-A9F3FB5C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D22-6BDA-46BB-B21A-F333852A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9E6-5E02-4FDF-9D87-1798EC33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1AA-3330-4AD8-9515-86FDF376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E43C-9905-4765-A5C9-3BE05EC2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2EA7-D912-4531-8130-6A166354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60FC-E17F-4B08-8FC9-44E3EBB9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D7D3-137B-41DC-BC97-483139CC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D23F-7600-4BDB-9097-C6C56192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3152-12D1-47E5-B042-B65F7C39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98DF-7394-433A-AE61-F81F4B8D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D45-7EC3-4D63-B02D-13ECDC3E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CBE3-4562-46D6-A730-41E93889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6DD5-C16E-42A1-8E11-DF888A2B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3E05-B6A1-4B26-BBAE-D0AFE950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D3F1-1B95-47F7-8119-2516B5C3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44F5-4F25-46CC-B49E-160C203F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35C-A5AE-4001-A307-30B647A4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075-55E3-40E2-A7E1-3B115186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902-C644-4CBA-AF88-38DD4D46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CC4-471C-4353-A2AB-8D86D1F8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AFE-4C11-4347-BCD1-C60CFF90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416-58F9-41F2-92A5-C099294F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6D9-97E3-4BFB-95D4-56C8AEF6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3483-DCB7-4EE6-BB31-34145367A6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3EA5-2527-43A1-A5B5-16973E2A39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175248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cc3300"/>
                </a:solidFill>
                <a:latin typeface="Seagull Hv BT"/>
              </a:rPr>
              <a:t>50x1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497520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6000" spc="-1" strike="noStrike">
                <a:solidFill>
                  <a:srgbClr val="333399"/>
                </a:solidFill>
                <a:latin typeface="Seagull Hv BT"/>
              </a:rPr>
              <a:t>¿Hablas Bibli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37880" y="3200400"/>
            <a:ext cx="520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cc3300"/>
                </a:solidFill>
                <a:latin typeface="Seagull Hv BT"/>
              </a:rPr>
              <a:t>BÍBLIC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77120" y="228600"/>
            <a:ext cx="242892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a comodín podrá ser utilizado en el momento que así lo decida el equipo,  pero una sola ve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a utilizar cualquiera de los comodines lo han de comunicar al presentador y entregarle la tarjeta correspond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comodín sólo se podrá utilizar si se   pide antes de que transcurra el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44600" y="114300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námica del Juego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666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ando aparezca la pregunta en pantalla, el equipo dispone de 1 minuto para elegir la opción que considere correc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egirán la opción colocando sobre la mesa, de forma visible, la cartulina correspondiente a dicha op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3680" y="1143000"/>
            <a:ext cx="46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námica del Juego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666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se dará por válida ninguna respuesta escogida una vez transcurrido el tiem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el caso de utilizar comodín el minuto de tiempo se anulará, disponiendo de ½ minuto adicional por cada comodín, excepto del de público, para responder la pregunta, a contar desde el momento en que lo indique el presen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rcador de tiempo: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82760" y="1143000"/>
            <a:ext cx="476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námica del Juego V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913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410080" y="61722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0866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705720" y="6172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aspecto de las pantallas de preguntas es el sigui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02200" y="11430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námica del Juego V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días duró la Cre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i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i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o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380880"/>
            <a:ext cx="3124080" cy="609840"/>
          </a:xfrm>
          <a:prstGeom prst="rightArrowCallout">
            <a:avLst>
              <a:gd name="adj1" fmla="val 18752"/>
              <a:gd name="adj2" fmla="val 34375"/>
              <a:gd name="adj3" fmla="val 41907"/>
              <a:gd name="adj4" fmla="val 8760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alor en pu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143000"/>
            <a:ext cx="3124080" cy="609480"/>
          </a:xfrm>
          <a:prstGeom prst="rightArrowCallout">
            <a:avLst>
              <a:gd name="adj1" fmla="val 18752"/>
              <a:gd name="adj2" fmla="val 34375"/>
              <a:gd name="adj3" fmla="val 41932"/>
              <a:gd name="adj4" fmla="val 8760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º de preg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2286000"/>
            <a:ext cx="3886200" cy="914400"/>
          </a:xfrm>
          <a:prstGeom prst="upArrowCallout">
            <a:avLst>
              <a:gd name="adj1" fmla="val 43763"/>
              <a:gd name="adj2" fmla="val 46868"/>
              <a:gd name="adj3" fmla="val 16667"/>
              <a:gd name="adj4" fmla="val 8484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exto de la preg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9021800">
            <a:off x="3200040" y="3580920"/>
            <a:ext cx="2577960" cy="2352960"/>
          </a:xfrm>
          <a:custGeom>
            <a:avLst/>
            <a:gdLst>
              <a:gd name="textAreaLeft" fmla="*/ 644400 w 2577960"/>
              <a:gd name="textAreaRight" fmla="*/ 1933560 w 2577960"/>
              <a:gd name="textAreaTop" fmla="*/ 588240 h 2352960"/>
              <a:gd name="textAreaBottom" fmla="*/ 1764720 h 23529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4572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85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133720" y="304920"/>
            <a:ext cx="2133360" cy="609480"/>
          </a:xfrm>
          <a:prstGeom prst="leftArrowCallout">
            <a:avLst>
              <a:gd name="adj1" fmla="val 31253"/>
              <a:gd name="adj2" fmla="val 34375"/>
              <a:gd name="adj3" fmla="val 48955"/>
              <a:gd name="adj4" fmla="val 80961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d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días duró la Cre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i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50% -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75248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días duró la Cre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66ff33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Si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5889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énesis 2: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5791320"/>
            <a:ext cx="3733560" cy="609480"/>
          </a:xfrm>
          <a:prstGeom prst="rightArrowCallout">
            <a:avLst>
              <a:gd name="adj1" fmla="val 18752"/>
              <a:gd name="adj2" fmla="val 34375"/>
              <a:gd name="adj3" fmla="val 50113"/>
              <a:gd name="adj4" fmla="val 87602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ferencia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3962520"/>
            <a:ext cx="2361960" cy="838080"/>
          </a:xfrm>
          <a:prstGeom prst="downArrowCallout">
            <a:avLst>
              <a:gd name="adj1" fmla="val 29543"/>
              <a:gd name="adj2" fmla="val 45458"/>
              <a:gd name="adj3" fmla="val 9847"/>
              <a:gd name="adj4" fmla="val 80301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r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668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podrá detener el juego para verificar la referencia bíblica de cualquier respuesta en cualquier momento entre pregunta y pregu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62240" y="1143000"/>
            <a:ext cx="461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námica del Juego 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equipo que acumule más puntos al final de los cuatro bloques será el gan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caso de empate se decidirá el ganador mediante el sistema de muerte súb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42800" y="1143000"/>
            <a:ext cx="462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¿Quién gana el jue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6668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muerte súbita consiste en una batería de preguntas con el mismo diseño que los bloques del juego, es decir, una pregunta con cuatro opciones de respue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s preguntas se irán planteando por orden a cada uno de los equipos empatados y de manera consecu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6560" y="114300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uerte sú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icipan un total de 4 equip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a equipo está compuesto por       4 miemb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354320" y="1066680"/>
            <a:ext cx="35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Reglas del Ju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a equipo recibirá el mismo número de pregu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primer equipo que falle una pregunta, habiendo respondido correctamente los otros, será eli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a equipo dispondrá de 10 segundos para responder a la pregu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caso de no contestar o hacerlo fuera de tiempo se considerará como fa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6560" y="114300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uerte sú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668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se pueden utilizar comod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caso de que ningún equipo responda correctamente a las preguntas de muerte súbita, se pasará a una siguiente ronda de pregu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alquiera de los equipos que incumpla las reglas podrá ser descalificado y eliminado del jue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76560" y="1143000"/>
            <a:ext cx="30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uerte sú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27432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antificad a Cristo el Señor en vuestros corazones, y estad siempre preparados para responder con mansedumbre y rever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1ªPedro 3: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que en todas estas co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omos más que vence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medio de Aquel que nos am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omanos 8:37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primeros 16 asistentes que deseen participar reciben un sobre a la lleg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a sobre contiene una cartulina de color, que determina el color del equipo al que se va a pertenec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sobres no se pueden abrir hasta que se dé la señal para e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5560" y="1143000"/>
            <a:ext cx="65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¿Cómo se forman los equipos?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na vez abiertos los sobres, cada participante deberá reunirse con el resto de miembros de su equ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a equipo deberá reunirse en el lugar y ante el juez designado y hacerle entrega a éste de las cartulinas de col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94640" y="1143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¿Cómo se forman los equipos?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primer equipo que se reúna al completo será el primero en jugar, y así sucesiv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 considera que el equipo está completo cuando el juez recibe las 4 cartulinas de col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caso de duda o empate el orden de juego se decidirá por suer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13720" y="1143000"/>
            <a:ext cx="68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¿Cómo se forman los equipos?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Juego se compone de 4 bloques de quince preguntas cada uno; un bloque por equip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a equipo juega individualmente, y en el orden establecido de ante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59000" y="1143000"/>
            <a:ext cx="434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námica del Juego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8440" y="1143000"/>
            <a:ext cx="44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námica del Juego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s preguntas se dividen en cuatro bloques determinados por el valor en puntos de cada pregun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 preguntas de 1 pu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 preguntas de 2 pu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 preguntas de 5 pu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pregunta de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ahoma"/>
              </a:rPr>
              <a:t>15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pu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tal:15 Preguntas x 50 puntos.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97160" y="1143000"/>
            <a:ext cx="46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námica del Juego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 medida que aumenta la puntuación aumenta el grado de dificultad de las pregu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a equipo contesta las 15 preguntas, acumulando los puntos que obtenga por cada respuesta correc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a respuesta incorrecta resta su valor en puntos a los puntos acumulados hasta el mo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63680" y="1143000"/>
            <a:ext cx="46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námica del Juego 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9051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Bibli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.-Se puede usar la Biblia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a buscar la respue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SO01872_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1218960" cy="1074600"/>
          </a:xfrm>
          <a:prstGeom prst="rect">
            <a:avLst/>
          </a:prstGeom>
          <a:ln w="0">
            <a:noFill/>
          </a:ln>
        </p:spPr>
      </p:pic>
      <p:pic>
        <p:nvPicPr>
          <p:cNvPr id="126" name="DD00758_" descr=""/>
          <p:cNvPicPr/>
          <p:nvPr/>
        </p:nvPicPr>
        <p:blipFill>
          <a:blip r:embed="rId2"/>
          <a:stretch/>
        </p:blipFill>
        <p:spPr>
          <a:xfrm>
            <a:off x="1676520" y="3733920"/>
            <a:ext cx="9903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E02667_" descr=""/>
          <p:cNvPicPr/>
          <p:nvPr/>
        </p:nvPicPr>
        <p:blipFill>
          <a:blip r:embed="rId3"/>
          <a:stretch/>
        </p:blipFill>
        <p:spPr>
          <a:xfrm>
            <a:off x="1523880" y="4800600"/>
            <a:ext cx="1069920" cy="1182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19520" y="36576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50%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.-Las posibilidades de respuesta se reducen a la mit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87692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Público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.-Se puede pedir la opinión del público y escoger lo que diga la mayoría (no hay tiempo y se suman 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21760" y="190512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ay disponibles 3 comod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166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8:52:04Z</dcterms:created>
  <dc:creator>J.M. DUPLESSIS</dc:creator>
  <dc:description/>
  <dc:language>en-US</dc:language>
  <cp:lastModifiedBy>J.M. Duplessis</cp:lastModifiedBy>
  <dcterms:modified xsi:type="dcterms:W3CDTF">2003-02-16T17:25:01Z</dcterms:modified>
  <cp:revision>55</cp:revision>
  <dc:subject/>
  <dc:title>1.</dc:title>
</cp:coreProperties>
</file>