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chimes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E84-6DCB-40A5-A314-6E80D2225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20F-580A-4C1F-B911-C1F03A5F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43F-3195-4F7E-99AB-6E6625AA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141-5F48-4E8D-BF54-0DB59F5E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C53A-1924-4E58-A233-C48A8BDA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B53A-725F-41EC-A861-7D774B62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0FF-8D72-4C67-B842-8E176B77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7556-7D04-4D07-8018-780823FC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6136-D4CF-45AE-990C-7BF6B9B0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9EA0-CC8C-43DC-AEC1-D57EAB05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8255-7847-46FD-9ABA-51705E2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1E3-AED1-49B2-A2ED-A17EBA8F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9F52-429D-4199-A474-7B44466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4897-E584-499D-9D28-876AC6F5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BB5F-FCA1-4E8E-A86B-5D02391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68A7-F5E9-4A76-B8AC-2D327EDB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9264-1E98-4FC3-B329-2FC077D7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0AB-C018-4103-B117-E8EAD3D0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7DD-9EEF-4D4A-9AC7-57CCCF80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9F3-7D08-4C34-98E1-284DFFA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4FB7-936F-4624-BF9C-C20B999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719-8742-4E4F-AF12-C9D6A63D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1F1C-0DEC-4012-992F-CA79BB35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1DD-279C-4CDB-ADDC-5E9C07CF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5F1C-1DB7-4E9D-9C94-B82E5BAA29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E0F-D6E8-4A22-986D-74A3FED57D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wmf"/><Relationship Id="rId4" Type="http://schemas.openxmlformats.org/officeDocument/2006/relationships/slide" Target="slide1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slide" Target="slide1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slide" Target="slide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2.wmf"/><Relationship Id="rId4" Type="http://schemas.openxmlformats.org/officeDocument/2006/relationships/slide" Target="slide2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wmf"/><Relationship Id="rId4" Type="http://schemas.openxmlformats.org/officeDocument/2006/relationships/slide" Target="slide3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3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wmf"/><Relationship Id="rId4" Type="http://schemas.openxmlformats.org/officeDocument/2006/relationships/slide" Target="slide4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image" Target="../media/image2.wmf"/><Relationship Id="rId4" Type="http://schemas.openxmlformats.org/officeDocument/2006/relationships/slide" Target="slide4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" Target="slide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flipH="1">
            <a:off x="7162560" y="762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4120" y="372600"/>
            <a:ext cx="3573360" cy="701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6633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Seagull Hv BT"/>
              </a:rPr>
              <a:t>50x15 Bíblic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259092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Seagull Hv BT"/>
              </a:rPr>
              <a:t>BLOQUE 3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1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costumbre tenía Jesús los Sábad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scan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r a la sinag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costumbre tenía Jesús los Sábad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 4: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Ir a la sinag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49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e quién era la imagen que aparecía en los denarios en tiempos de Jesú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il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é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 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ure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80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e quién era la imagen que aparecía en los denarios en tiempos de Jesú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il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é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 s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ure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1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14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e quién era la imagen que aparecía en los denarios en tiempos de Jesú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il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é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3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e quién era la imagen que aparecía en los denarios en tiempos de Jesú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il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é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e quién era la imagen que aparecía en los denarios en tiempos de Jesú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 22:19-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é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6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66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Por qué murió U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ro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m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tocar el a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3868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blasfe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Por qué murió U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ro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m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tocar el a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3868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blasfe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3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31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Por qué murió U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tocar el a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63868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blasfe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3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la primera mentira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morir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105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te conoz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y tu 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5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Por qué murió U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638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tocar el a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868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or blasfe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Por qué murió U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2ª Samuel 6:6-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38680" y="4114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Por tocar el a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80" name="SO0187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81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5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lamado “el Tisbit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m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13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lamado “el Tisbit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m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47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lamado “el Tisbit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6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lamado “el Tisbit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lamado “el Tisbita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ª Reyes 17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7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98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ibrado de la cárcel por un áng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28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ibrado de la cárcel por un áng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i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76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33520"/>
            <a:ext cx="946080" cy="834840"/>
          </a:xfrm>
          <a:prstGeom prst="rect">
            <a:avLst/>
          </a:prstGeom>
          <a:ln w="0">
            <a:noFill/>
          </a:ln>
        </p:spPr>
      </p:pic>
      <p:pic>
        <p:nvPicPr>
          <p:cNvPr id="763" name="DD00758_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761760" cy="664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ibrado de la cárcel por un áng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la primera mentira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morir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51055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te conoz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y tu 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8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ibrado de la cárcel por un áng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librado de la cárcel por un áng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8128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echos 12: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1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15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pueblo vivió Jesús cuando dejó Nazar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alil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m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46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pueblo vivió Jesús cuando dejó Nazar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alil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m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7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80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pueblo vivió Jesús cuando dejó Nazar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8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99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pueblo vivió Jesús cuando dejó Nazar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pueblo vivió Jesús cuando dejó Nazar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 4: 12-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apern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3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31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Daniel y Jo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Os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61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Daniel y Jo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Os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9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Daniel y Jo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Os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37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9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la primera mentira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morir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1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Daniel y Jo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Os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Daniel y Jo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Os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49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R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79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R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14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R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32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R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os capítulos tiene el libro de Ru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64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saje del Antiguo Testamento, que habla de la muerte de Jesús, leía el eunuco etíope cuando se encontró con Feli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 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 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94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saje del Antiguo Testamento, que habla de la muerte de Jesús, leía el eunuco etíope cuando se encontró con Feli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 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 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29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saje del Antiguo Testamento, que habla de la muerte de Jesús, leía el eunuco etíope cuando se encontró con Feli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 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875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la primera mentira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o morir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4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4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saje del Antiguo Testamento, que habla de la muerte de Jesús, leía el eunuco etíope cuando se encontró con Feli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 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pasaje del Antiguo Testamento, que habla de la muerte de Jesús, leía el eunuco etíope cuando se encontró con Feli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echos 8:26-3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Isaías 5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79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describe el apóstol Pablo, ¿qué representa el yel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8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09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10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describe el apóstol Pablo, ¿qué representa el yel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4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describe el apóstol Pablo, ¿qué representa el yel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64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65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6" name="SO01872_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67" name="DD00758_" descr=""/>
          <p:cNvPicPr/>
          <p:nvPr/>
        </p:nvPicPr>
        <p:blipFill>
          <a:blip r:embed="rId6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describe el apóstol Pablo, ¿qué representa el yel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0020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describe el apóstol Pablo, ¿qué representa el yelm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fesios 6: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0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fue la segunda señal dada por Dios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diluv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fruto prohib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Arco I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638680" y="5105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torre de B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3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fue la segunda señal dada por Dios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diluv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143000" y="5105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fruto prohib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Arco I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638680" y="5105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torre de Bab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6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6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fue la segunda señal dada por Dios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diluv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Arco I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la primera mentira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3: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No moriré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82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fue la segunda señal dada por Dios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diluv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 Arco I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fue la segunda señal dada por Dios registrada en la Bibli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énesis 9: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l Arco I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1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1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 estas palabras?         “Ahora la salvación está más cerca de nosotros que cuando creím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ti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4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 estas palabras?         “Ahora la salvación está más cerca de nosotros que cuando creím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tia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7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7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 estas palabras?         “Ahora la salvación está más cerca de nosotros que cuando creím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9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9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 estas palabras?         “Ahora la salvación está más cerca de nosotros que cuando creím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 estas palabras?         “Ahora la salvación está más cerca de nosotros que cuando creím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2578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Romanos 13: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2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29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ónde se encuentra el versícul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Dios haremos proezas, y Él aplastará a nuestros enemig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su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5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ónde se encuentra el versícul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Dios haremos proezas, y Él aplastará a nuestros enemig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su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9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9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9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ónde se encuentra el versícul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Dios haremos proezas, y Él aplastará a nuestros enemig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1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costumbre tenía Jesús los Sábad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scan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edi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ar enfer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r a la sinag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1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1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1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ónde se encuentra el versícul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Dios haremos proezas, y Él aplastará a nuestros enemig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685800" y="1752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Dónde se encuentra el versícul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Dios haremos proezas, y Él aplastará a nuestros enemigos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lmos 108: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4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42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evangelio registra la curación del paralítico del estanque de Betes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7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7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evangelio registra la curación del paralítico del estanque de Betes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0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0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evangelio registra la curación del paralítico del estanque de Betes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2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82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evangelio registra la curación del paralítico del estanque de Betes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evangelio registra la curación del paralítico del estanque de Betesd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 5:1-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ccccff"/>
          </a:solidFill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51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costumbre tenía Jesús los Sábad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scan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redi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41148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ar enfer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r a la sinag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91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costumbre tenía Jesús los Sábad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escans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r a la sinago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8T19:54:10Z</dcterms:modified>
  <cp:revision>71</cp:revision>
  <dc:subject/>
  <dc:title>1.</dc:title>
</cp:coreProperties>
</file>