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A822-2A11-4EF3-ACFD-ADAD0F51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2CA-43F4-4B1C-BBAC-088D137F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205-8232-4213-B494-03998BFD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9C7-BB3E-4360-8DA0-6C66E92F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64CE-448F-49F0-B635-AFD4247A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8E46-BE5C-4C4A-93FA-C2D3DDF1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A1B3-B13C-4EEF-9476-F714934B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E5CE-8BAC-4D40-952F-55A96D31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A2F9-A7B6-44AD-9313-5815DAD7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B6AD-3D40-4A72-9707-F23FA311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82C7-4320-4F6C-899A-8C7C9C8B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7D9-A548-4459-93AE-B5458A8D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B0D8-6D38-4FB0-A179-CCD6CF90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7B65-735E-4DFD-B33E-FC6A0654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C911-38E4-4CD6-BDFA-AD06B85C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3F2E-1283-4CD0-AC5F-B345FA84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1DF5-E2D1-45B8-82D6-0D2FB338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BF4-80F2-4954-81CB-DDB2BBC7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C71-02E0-44EC-A1B5-BDBEBAC7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C3A-3DD5-47BA-AAA3-BA2B67EE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AC3-7C14-4970-ABCC-2E1EA37B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C51-5CA5-4794-AA31-9F8D6626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B7F-81AD-4331-85C8-F3F1CC25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CFE-3348-4FA3-B002-ECEF9B0E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345A-B988-41F4-BAF5-C6D2CCC7F9A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E0B8-D7F9-4899-B9E7-28672215B30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flipH="1">
            <a:off x="0" y="167652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4120" y="370800"/>
            <a:ext cx="35733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3300"/>
                </a:solidFill>
                <a:latin typeface="Seagull Hv BT"/>
              </a:rPr>
              <a:t>50x15 Bíblico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3372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cc"/>
                </a:solidFill>
                <a:latin typeface="Seagull Hv BT"/>
              </a:rPr>
              <a:t>MUERTE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0960" y="3809880"/>
            <a:ext cx="44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cc"/>
                </a:solidFill>
                <a:latin typeface="Seagull Hv BT"/>
              </a:rPr>
              <a:t>SÚBITA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5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7524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Quién pronunció estás palabr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El que no naciere de nuevo, no puede ver el reino de Dio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t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r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5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19920" y="6172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esús / Juan 3: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17524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Quién pronunció estás palabr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El que no naciere de nuevo, no puede ver el reino de Dio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6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llamó a Jesús “la estrella resplandeciente de la mañana”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esú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Un áng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zequi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6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6172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248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pocalipsis 22: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llamó a Jesús “la estrella resplandeciente de la mañana”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esú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7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os años tenía el rey Josías cuando fue hallado el libro de la le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8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12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18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26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7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19920" y="6172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6172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2ª Crónicas 34:1, 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os años tenía el rey Josías cuando fue hallado el libro de la le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26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8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75248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A quién escribió Pablo estas palabr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Para mí el vivir es Cristo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71600" y="4114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 los Roman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5280" y="5105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 los Corint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386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 los Filipen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 los Gála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8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19920" y="6172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48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Filipenses 1:2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175248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A quién escribió Pablo estas palabr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Para mí el vivir es Cristo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386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 los Filipen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9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En qué época de los Jueces “cada uno hacía lo que bien le parecía”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4114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l comien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9528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Tras Sans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386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ntes de Sans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l f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9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19920" y="6172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248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ueces 25:2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En qué época de los Jueces “cada uno hacía lo que bien le parecía”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l f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1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é parentesco unía a Ester con Mardoqueo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Tí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Herma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Pri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Tío abue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10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ómo se llamaba el marido de Ru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liméle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hl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Quily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oa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10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19920" y="6172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48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Rut 1: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ómo se llamaba el marido de Ru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liméle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11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A quién está dirigido el libro de Hechos de los Apóstol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71600" y="4038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 Sóste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 Teófi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8680" y="39625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 todos los san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38680" y="4952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 la iglesia en Jerusalé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11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19920" y="6172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48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Hechos 1: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A quién está dirigido el libro de Hechos de los Apóstol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 Teófil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1219320" y="99072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12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é profesión tenía Ezequiel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acerdo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Prof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562720" y="39625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Pastor de buey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scanciad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12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6172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248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zequiel 1: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é profesión tenía Ezequiel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acerdo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1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6172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ster 2: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é parentesco unía a Ester con Mardoqueo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Pri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2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escogió el nombre de Salomón para el hijo de Davi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av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Betsab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atá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2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6172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1ª Crónicas 22:8-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escogió el nombre de Salomón para el hijo de Davi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3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fue llamado “hijo del hombre” en el Antiguo Testamento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dá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l Mesí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zequi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brah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3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6172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zequiel 16:1-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fue llamado “hijo del hombre” en el Antiguo Testamento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zequi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152640" cy="152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4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7524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Quién escribió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Mirad a mí, y sed salvos, todos los términos de la tierra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Isaí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eremí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Arial Black"/>
              </a:rPr>
              <a:t>4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6172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Isaías 45:2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7524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Quién escribió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Mirad a mí, y sed salvos, todos los términos de la tierra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66ff33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Isaí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8:52:04Z</dcterms:created>
  <dc:creator>J.M. DUPLESSIS</dc:creator>
  <dc:description/>
  <dc:language>en-US</dc:language>
  <cp:lastModifiedBy>J.M. Duplessis</cp:lastModifiedBy>
  <dcterms:modified xsi:type="dcterms:W3CDTF">2003-02-18T20:58:51Z</dcterms:modified>
  <cp:revision>75</cp:revision>
  <dc:subject/>
  <dc:title>1.</dc:title>
</cp:coreProperties>
</file>