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A2E-4E13-4CA6-9D52-6B4CE302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58A-47A6-4DF0-9AA6-92D3497E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3F09-1DBB-40A2-BC86-8BF4C8E4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AAA-4F08-4D3E-B8A9-A29CEB20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63E6-B4C6-4548-8EA9-52A5CA9D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8B5A-7485-4645-9464-0ED05AF1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FF7A-0DB7-48D8-BB7F-BC06558D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6080-5B3B-4E45-98CD-5C4A2F87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9FF4-1246-49DC-B6C3-2C6CC660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07F6-25B9-4DB9-AD7D-17BEA039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7812-F61D-4424-8003-C6FDED83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A40-2024-4CA0-B3E9-EFCE50B5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C9D5-2E96-4A4F-AE78-3E44378B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AD13-5997-49CD-8016-B9D2D44D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B64A-0D3F-411D-AD21-590E23D8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97A5-B3AB-4E95-A941-FA9C2D4D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74FB-D398-48CA-92C6-2F05BAEE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A6D-3B28-409B-B1B8-2AAAC2B9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DCA-29C3-4484-98C8-48209ABD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784-E2E3-4E59-88E9-DE09DBC0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829-9473-4DCD-B4AB-921A7E0D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011-5087-43DB-91EE-A28528D5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5DC-4D2C-4186-A86D-1258CED4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34ED-52D8-4357-8339-6722FC77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AE97-EDA6-4A1E-AF4C-550064871D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5DD3-5036-4B25-B323-82A742F99A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3.xml"/><Relationship Id="rId3" Type="http://schemas.openxmlformats.org/officeDocument/2006/relationships/image" Target="../media/image4.wmf"/><Relationship Id="rId4" Type="http://schemas.openxmlformats.org/officeDocument/2006/relationships/slide" Target="slide14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14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5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8.xml"/><Relationship Id="rId3" Type="http://schemas.openxmlformats.org/officeDocument/2006/relationships/image" Target="../media/image4.wmf"/><Relationship Id="rId4" Type="http://schemas.openxmlformats.org/officeDocument/2006/relationships/slide" Target="slide19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19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0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4.wmf"/><Relationship Id="rId4" Type="http://schemas.openxmlformats.org/officeDocument/2006/relationships/slide" Target="slide4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4.wmf"/><Relationship Id="rId3" Type="http://schemas.openxmlformats.org/officeDocument/2006/relationships/slide" Target="slide24.xml"/><Relationship Id="rId4" Type="http://schemas.openxmlformats.org/officeDocument/2006/relationships/image" Target="../media/image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24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5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8.xml"/><Relationship Id="rId3" Type="http://schemas.openxmlformats.org/officeDocument/2006/relationships/image" Target="../media/image4.wmf"/><Relationship Id="rId4" Type="http://schemas.openxmlformats.org/officeDocument/2006/relationships/slide" Target="slide29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9.xml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0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3.xml"/><Relationship Id="rId3" Type="http://schemas.openxmlformats.org/officeDocument/2006/relationships/image" Target="../media/image4.wmf"/><Relationship Id="rId4" Type="http://schemas.openxmlformats.org/officeDocument/2006/relationships/slide" Target="slide34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4.xml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5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39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9.xml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0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3.xml"/><Relationship Id="rId3" Type="http://schemas.openxmlformats.org/officeDocument/2006/relationships/image" Target="../media/image4.wmf"/><Relationship Id="rId4" Type="http://schemas.openxmlformats.org/officeDocument/2006/relationships/slide" Target="slide44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44.xml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5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8.xml"/><Relationship Id="rId3" Type="http://schemas.openxmlformats.org/officeDocument/2006/relationships/image" Target="../media/image4.wmf"/><Relationship Id="rId4" Type="http://schemas.openxmlformats.org/officeDocument/2006/relationships/slide" Target="slide49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49.xml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0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image" Target="../media/image4.wmf"/><Relationship Id="rId4" Type="http://schemas.openxmlformats.org/officeDocument/2006/relationships/slide" Target="slide9.xml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9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 flipH="1">
            <a:off x="7162560" y="7621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4120" y="370800"/>
            <a:ext cx="35733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3300"/>
                </a:solidFill>
                <a:latin typeface="Seagull Hv BT"/>
              </a:rPr>
              <a:t>50x15 Bíblic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590920"/>
            <a:ext cx="5943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ff"/>
                </a:solidFill>
                <a:latin typeface="Seagull Hv BT"/>
              </a:rPr>
              <a:t>BLOQUE 2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2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63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 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ién pertenecía el manto al que David cortó una orill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ú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at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ién pertenecía el manto al que David cortó una orill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436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ª Samuel 24: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Saú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95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redicó en el día de Pentecost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26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redicó en el día de Pentecost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3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9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60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redicó en el día de Pentecost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8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79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redicó en el día de Pentecost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3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redicó en el día de Pentecosté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436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echos 2:1-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Ped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1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11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idió a Dios una señal dos ve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ede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1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42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idió a Dios una señal dos ve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ede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4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75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76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idió a Dios una señal dos ve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ede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6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general del ejército de Siria fue lepros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c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aa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f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4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9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96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idió a Dios una señal dos ve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ede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4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pidió a Dios una señal dos vec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9436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eces 6:36-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Gede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26" name="SO0187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27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5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ómo se llamaba el padre de Samu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no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usalé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c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8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59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ómo se llamaba el padre de Samu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no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usalé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c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5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92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93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ómo se llamaba el padre de Samu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no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c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11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ómo se llamaba el padre de Samu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no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c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ómo se llamaba el padre de Samue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436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ª Samuel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Elc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44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45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Miqueas y Nahu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abacu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os 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75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Miqueas y Nahu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Habacu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os 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6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09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533520"/>
            <a:ext cx="946080" cy="834840"/>
          </a:xfrm>
          <a:prstGeom prst="rect">
            <a:avLst/>
          </a:prstGeom>
          <a:ln w="0">
            <a:noFill/>
          </a:ln>
        </p:spPr>
      </p:pic>
      <p:pic>
        <p:nvPicPr>
          <p:cNvPr id="810" name="DD00758_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761760" cy="66492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Miqueas y Nahu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os 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general del ejército de Siria fue lepros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c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aa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f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28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6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Miqueas y Nahu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os 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6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Miqueas y Nahu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6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61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el instrumento de Dios para mostrar su poder en el monte Carm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i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1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92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el instrumento de Dios para mostrar su poder en el monte Carm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is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7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25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26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el instrumento de Dios para mostrar su poder en el monte Carm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45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7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el instrumento de Dios para mostrar su poder en el monte Carm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7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el instrumento de Dios para mostrar su poder en el monte Carme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9436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ª Reyes 18:20-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El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76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77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Habacuc y Hage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mó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ofon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07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008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Habacuc y Hage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mó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ofon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8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41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42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Habacuc y Hage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ofon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874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12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general del ejército de Siria fue lepros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c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aa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60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8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Habacuc y Hage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ofon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8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libro hay entre Habacuc y Hage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Sofon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9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91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as personas estuvieron presentes en la Transfigura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in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21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as personas estuvieron presentes en la Transfigura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in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9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55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56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as personas estuvieron presentes en la Transfigura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75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9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as personas estuvieron presentes en la Transfigura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Cua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9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ntas personas estuvieron presentes en la Transfigura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00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S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6172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edro, Jacobo, Juan, Jesús, Moisés y Elías  Mateo 17:1-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09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10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é tribu pertenecían el rey Saúl y el apóstol Pab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njamí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na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41008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 de el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40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é tribu pertenecían el rey Saúl y el apóstol Pab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d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njamí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nas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41008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 de el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0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74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75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é tribu pertenecían el rey Saúl y el apóstol Pab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njamí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41008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 de el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31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875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general del ejército de Siria fue lepros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c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aa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94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295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0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é tribu pertenecían el rey Saúl y el apóstol Pab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Benjamí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41008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 de el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0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é tribu pertenecían el rey Saúl y el apóstol Pab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733920" y="61722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1ª Samuel 9:1-2 ; Filipenses 3: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Benjamí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8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9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30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33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Pablo describe, ¿qué representa la cora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Ver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2193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Palabra de D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Justi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Sal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61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362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6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Pablo describe, ¿qué representa la cora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Ver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219320" y="5105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Palabra de D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Justi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Sal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1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6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7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98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Pablo describe, ¿qué representa la cora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Ver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Justi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16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417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8" name="SO01872_" descr=""/>
          <p:cNvPicPr/>
          <p:nvPr/>
        </p:nvPicPr>
        <p:blipFill>
          <a:blip r:embed="rId5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19" name="DD00758_" descr=""/>
          <p:cNvPicPr/>
          <p:nvPr/>
        </p:nvPicPr>
        <p:blipFill>
          <a:blip r:embed="rId6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Pablo describe, ¿qué representa la cora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066680" y="41148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Ver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a Justi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1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7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En la “armadura de Dios” que Pablo describe, ¿qué representa la coraz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9436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Efesios 6: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02920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La Justi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51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45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“Yo sé que mi Redentor viv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Zaca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81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“Yo sé que mi Redentor viv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Ab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Zaca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2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16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“Yo sé que mi Redentor viv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é general del ejército de Siria fue lepros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2ª Reyes 5: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Naam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2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33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53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“Yo sé que mi Redentor viv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Pab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2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dijo: “Yo sé que mi Redentor vive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943600" y="6172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b 19: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Jo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3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63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64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565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juez en Israel durante veinte años en el tiempo de los filiste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ns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ede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f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410080" y="4952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 es      corre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3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94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595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juez en Israel durante veinte años en el tiempo de los filiste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ns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Gede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f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410080" y="4952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Ninguna es      corre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3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8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29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63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juez en Israel durante veinte años en el tiempo de los filiste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ns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f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5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46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647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3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juez en Israel durante veinte años en el tiempo de los filiste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ns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f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3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5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Quién fue juez en Israel durante veinte años en el tiempo de los filiste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257800" y="6172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eces 15:2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Sans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4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76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77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se encuentra el versículo: “Y me buscaréis y me hallaréis, porque me buscaréis de todo vuestro corazón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em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laqu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71500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Éx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6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07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708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4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se encuentra el versículo: “Y me buscaréis y me hallaréis, porque me buscaréis de todo vuestro corazón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em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laqu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71500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Éx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4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1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42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74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se encuentra el versículo: “Y me buscaréis y me hallaréis, porque me buscaréis de todo vuestro corazón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em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63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64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ién pertenecía el manto al que David cortó una orill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mu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ú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at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60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761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4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se encuentra el versículo: “Y me buscaréis y me hallaréis, porque me buscaréis de todo vuestro corazón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Isa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em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4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0" name=""/>
          <p:cNvSpPr/>
          <p:nvPr/>
        </p:nvSpPr>
        <p:spPr>
          <a:xfrm>
            <a:off x="685800" y="17524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En qué libro se encuentra el versículo: “Y me buscaréis y me hallaréis, porque me buscaréis de todo vuestro corazón”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648320" y="6172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eremías 29: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Rockwell"/>
              </a:rPr>
              <a:t>Jerem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5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92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93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794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el único evangelio que no registra ninguna predicción de Jesús acerca de su resurrec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r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23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82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el único evangelio que no registra ninguna predicción de Jesús acerca de su resurrec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Mar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5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57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58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el único evangelio que no registra ninguna predicción de Jesús acerca de su resurrec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76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877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7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15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el único evangelio que no registra ninguna predicción de Jesús acerca de su resurrec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15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6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Cuál es el único evangelio que no registra ninguna predicción de Jesús acerca de su resurrec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724280" y="6172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 12:27-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f98d43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04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ién pertenecía el manto al que David cortó una orill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U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mu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ú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at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 Black"/>
              </a:rPr>
              <a:t>50% -  2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43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44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Rockwell"/>
              </a:rPr>
              <a:t>¿A quién pertenecía el manto al que David cortó una orill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Saú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Rockwell"/>
              </a:rPr>
              <a:t>Jonatá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8:52:04Z</dcterms:created>
  <dc:creator>J.M. DUPLESSIS</dc:creator>
  <dc:description/>
  <dc:language>en-US</dc:language>
  <cp:lastModifiedBy>J.M. Duplessis</cp:lastModifiedBy>
  <dcterms:modified xsi:type="dcterms:W3CDTF">2003-02-18T20:37:09Z</dcterms:modified>
  <cp:revision>73</cp:revision>
  <dc:subject/>
  <dc:title>1.</dc:title>
</cp:coreProperties>
</file>