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chimes.wav" ContentType="audio/x-wav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747-FFFC-496B-9A1A-A0805ED8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C8D-0BAD-4D10-8751-49EE470F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0A55-3E44-4371-BDF1-E886C5B6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B014-FF7E-493A-B49E-4AB65B9D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FF42-DEF4-4E73-B8A2-D4A53CC0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52EC-17C4-4C5E-8567-3A0AB612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A2B7-72B8-4666-87A7-B81FA639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E1F9-A77E-4024-A3B7-1A4C4E68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DF28-48AF-440D-9792-B148E857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4CD0-399D-45BE-826C-3825E216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871A-CAA4-40E8-888A-69244EB3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6492-7945-4A13-BDA9-C52EF9FA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FA63-BE1A-4C7F-A3B1-B664F047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59EE-FF88-4CC8-AB65-1589C233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0686-0E38-4F28-9E57-458B41B6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D726-1EA1-4FB6-B44A-89E78257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A3F9-99DE-4F61-9AAB-4EF16E26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CFF0-C2B3-45AD-AAB0-13956358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68C-359C-4C33-9F0F-3FA5A3B2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B141-DD2D-49DB-91A5-62A522D3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AF72-FEBB-48C7-B4FA-4C892704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83B8-D8B0-48E3-8841-05657D8D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9A17-7453-48CA-B0C8-F99D8342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E891-C8EA-4907-BFC1-F299499A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1A08-C8E3-4351-A3FD-F159BA3FF3ED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62BC-C2FE-4348-9B8A-BC1DBFCD09F7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image" Target="../media/image2.wmf"/><Relationship Id="rId4" Type="http://schemas.openxmlformats.org/officeDocument/2006/relationships/slide" Target="slide14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14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image" Target="../media/image2.wmf"/><Relationship Id="rId4" Type="http://schemas.openxmlformats.org/officeDocument/2006/relationships/slide" Target="slide19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19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0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wmf"/><Relationship Id="rId4" Type="http://schemas.openxmlformats.org/officeDocument/2006/relationships/slide" Target="slide4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.wmf"/><Relationship Id="rId3" Type="http://schemas.openxmlformats.org/officeDocument/2006/relationships/slide" Target="slide24.xml"/><Relationship Id="rId4" Type="http://schemas.openxmlformats.org/officeDocument/2006/relationships/image" Target="../media/image3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24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5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8.xml"/><Relationship Id="rId3" Type="http://schemas.openxmlformats.org/officeDocument/2006/relationships/image" Target="../media/image2.wmf"/><Relationship Id="rId4" Type="http://schemas.openxmlformats.org/officeDocument/2006/relationships/slide" Target="slide29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9.xml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0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4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image" Target="../media/image2.wmf"/><Relationship Id="rId4" Type="http://schemas.openxmlformats.org/officeDocument/2006/relationships/slide" Target="slide34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34.xml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5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39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39.xml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0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3.xml"/><Relationship Id="rId3" Type="http://schemas.openxmlformats.org/officeDocument/2006/relationships/image" Target="../media/image2.wmf"/><Relationship Id="rId4" Type="http://schemas.openxmlformats.org/officeDocument/2006/relationships/slide" Target="slide44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44.xml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5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8.xml"/><Relationship Id="rId3" Type="http://schemas.openxmlformats.org/officeDocument/2006/relationships/image" Target="../media/image2.wmf"/><Relationship Id="rId4" Type="http://schemas.openxmlformats.org/officeDocument/2006/relationships/slide" Target="slide49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49.xml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0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3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image" Target="../media/image2.wmf"/><Relationship Id="rId4" Type="http://schemas.openxmlformats.org/officeDocument/2006/relationships/slide" Target="slide9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9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 flipH="1">
            <a:off x="7162560" y="762120"/>
            <a:ext cx="75960" cy="759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4120" y="304920"/>
            <a:ext cx="3573360" cy="769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3300"/>
                </a:solidFill>
                <a:latin typeface="Seagull Hv BT"/>
              </a:rPr>
              <a:t>50x15 Bíblic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2590920"/>
            <a:ext cx="5943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600" spc="-1" strike="noStrike">
                <a:solidFill>
                  <a:srgbClr val="ffffcc"/>
                </a:solidFill>
                <a:latin typeface="Seagull Hv BT"/>
              </a:rPr>
              <a:t>BLOQUE 1</a:t>
            </a:r>
            <a:endParaRPr b="0" lang="en-US" sz="9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l es el capítulo más largo de la Bibli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almo 11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ob 4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44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345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l es el capítulo más largo de la Bibli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solidFill>
            <a:srgbClr val="0000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almo</a:t>
            </a:r>
            <a:r>
              <a:rPr b="1" lang="es-ES_tradnl" sz="2400" spc="-1" strike="noStrike">
                <a:solidFill>
                  <a:srgbClr val="220011"/>
                </a:solidFill>
                <a:latin typeface="Rockwell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11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176 versícul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ómo se llamaba la esposa de Moisé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éfo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a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il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ar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3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93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394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ómo se llamaba la esposa de Moisé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éfo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a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il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ar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3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25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426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3 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ómo se llamaba la esposa de Moisé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éfo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il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44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445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3 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ómo se llamaba la esposa de Moisé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éfo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il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463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464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3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ómo se llamaba la esposa de Moisé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solidFill>
            <a:srgbClr val="0000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éfo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Éxodo 2: 2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es fueron los hijos de Raquel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Benjamí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os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ingu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Los 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07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508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es fueron los hijos de Raquel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Benjamí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os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ingu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Los 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39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540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44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545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ingu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Los 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es fueron los hijos de Raquel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vio a unos ángeles que subían y bajaban por una escaler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aco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brah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zequi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o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33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65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566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ingu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Los 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es fueron los hijos de Raquel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es fueron los hijos de Raquel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solidFill>
            <a:srgbClr val="0000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Los 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Génesis 35: 2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golpeó la roca en Horeb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brah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ud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ar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22" name="SO01872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623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5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28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629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golpeó la roca en Horeb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brah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ud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ar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5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golpeó la roca en Horeb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ar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76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677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680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5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golpeó la roca en Horeb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ar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golpeó la roca en Horeb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solidFill>
            <a:srgbClr val="0000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Éxodo 17: 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ntas veces pasaron los israelitas por aguas que se abriero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6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Una v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os ve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Tres ve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ingu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40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741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743" name="DD00758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ntas veces pasaron los israelitas por aguas que se abriero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6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Una v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os ve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Tres ve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ingu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6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ntas veces pasaron los israelitas por aguas que se abriero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Una v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os ve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92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533520"/>
            <a:ext cx="946080" cy="834840"/>
          </a:xfrm>
          <a:prstGeom prst="rect">
            <a:avLst/>
          </a:prstGeom>
          <a:ln w="0">
            <a:noFill/>
          </a:ln>
        </p:spPr>
      </p:pic>
      <p:pic>
        <p:nvPicPr>
          <p:cNvPr id="793" name="DD00758_" descr=""/>
          <p:cNvPicPr/>
          <p:nvPr/>
        </p:nvPicPr>
        <p:blipFill>
          <a:blip r:embed="rId4"/>
          <a:stretch/>
        </p:blipFill>
        <p:spPr>
          <a:xfrm>
            <a:off x="1676520" y="533520"/>
            <a:ext cx="761760" cy="66492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vio a unos ángeles que subían y bajaban por una escaler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aco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brah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zequi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o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796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6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ntas veces pasaron los israelitas por aguas que se abriero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Una v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os ve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6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ntas veces pasaron los israelitas por aguas que se abriero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solidFill>
            <a:srgbClr val="0000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os vec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581280" y="6019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Éxodo 14:21-22; Josué 3:15-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7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cerró la puerta del arca que construyó Noé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o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C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af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57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858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60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861" name="DD00758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7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cerró la puerta del arca que construyó Noé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o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C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afe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9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7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cerró la puerta del arca que construyó Noé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o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08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909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910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12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913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7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cerró la puerta del arca que construyó Noé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o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7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cerró la puerta del arca que construyó Noé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solidFill>
            <a:srgbClr val="0000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Génesis 7: 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escribió el libro de Ezequía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8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zequí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adi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e cree que Jo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1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972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974" name="DD00758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76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escribió el libro de Ezequía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8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zequí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ois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adi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6386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e cree que Jo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8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escribió el libro de Ezequía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adi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6386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e cree que Jo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3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024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025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vio a unos ángeles que subían y bajaban por una escaler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aco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o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4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85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027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028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8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escribió el libro de Ezequía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adi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6386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e cree que Jo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4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800" y="1752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escribió el libro de Ezequía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solidFill>
            <a:srgbClr val="0000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adi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81480" y="6019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ste libro no exis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é libro hay entre Ezequiel y Osea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9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oná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ani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ingu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6386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al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7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088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090" name="DD00758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92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4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é libro hay entre Ezequiel y Osea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9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oná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ani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ingu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63868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al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2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9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é libro hay entre Ezequiel y Osea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oná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ani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9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140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4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143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144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45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4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9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é libro hay entre Ezequiel y Osea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oná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ani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9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é libro hay entre Ezequiel y Osea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solidFill>
            <a:srgbClr val="0000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ani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Dónde estaba situado el monte Moriah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erusalé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eric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ina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gip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10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2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203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205" name="DD00758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206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0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5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Dónde estaba situado el monte Moriah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erusalé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eric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ina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gip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10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3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10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Dónde estaba situado el monte Moriah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erusalé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eric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4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255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256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5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vio a unos ángeles que subían y bajaban por una escaler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aco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o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4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205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7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258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259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6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10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Dónde estaba situado el monte Moriah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erusalé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eric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5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10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Dónde estaba situado el monte Moriah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solidFill>
            <a:srgbClr val="0000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erusalé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2ª Crónicas 3:1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8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8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é parábola relató Jesús para dar respuesta a la pregunta: “Y quién es mi prójimo”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1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371600" y="4114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l hijo pródig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295280" y="5105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La oveja perd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34120" y="4114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l buen samarita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ingu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9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320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1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322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323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24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é parábola relató Jesús para dar respuesta a la pregunta: “Y quién es mi prójimo”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1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371600" y="4114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l hijo pródig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295280" y="51055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La oveja perd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334120" y="4114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l buen samarita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ingu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4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55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1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é parábola relató Jesús para dar respuesta a la pregunta: “Y quién es mi prójimo”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371600" y="4114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l hijo pródig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334120" y="4114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l buen samarita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1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372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373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4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5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376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377" name="" descr=""/>
          <p:cNvPicPr/>
          <p:nvPr/>
        </p:nvPicPr>
        <p:blipFill>
          <a:blip r:embed="rId4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7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1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é parábola relató Jesús para dar respuesta a la pregunta: “Y quién es mi prójimo”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4114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l hijo pródig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334120" y="4114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l buen samarita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3" name="SO01872_" descr=""/>
          <p:cNvPicPr/>
          <p:nvPr/>
        </p:nvPicPr>
        <p:blipFill>
          <a:blip r:embed="rId5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394" name="DD00758_" descr=""/>
          <p:cNvPicPr/>
          <p:nvPr/>
        </p:nvPicPr>
        <p:blipFill>
          <a:blip r:embed="rId6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395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1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é parábola relató Jesús para dar respuesta a la pregunta: “Y quién es mi prójimo”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solidFill>
            <a:srgbClr val="0000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334120" y="4114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l buen samarita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Lucas 10:29-3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7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0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ntas puertas habrá en la nueva Jerusalé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1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U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ie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i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o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7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438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440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441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2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ntas puertas habrá en la nueva Jerusalé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1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U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ie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i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o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7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1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ntas puertas habrá en la nueva Jerusalé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ie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o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0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491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492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Quién vio a unos ángeles que subían y bajaban por una escaler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solidFill>
            <a:srgbClr val="0000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aco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6019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Génesis 28:1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494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495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9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1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ntas puertas habrá en la nueva Jerusalé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ie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o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1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ntas puertas habrá en la nueva Jerusalé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solidFill>
            <a:srgbClr val="0000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o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943600" y="6019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pocalipsis 21:2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5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2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ntos de los Jueces de Israel fueron mujer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13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U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ingu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410080" y="4952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inguna es      correc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5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556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7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558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559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0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ntos de los Jueces de Israel fueron mujer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13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U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ingu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410080" y="4952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inguna es      correc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0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9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13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ntos de los Jueces de Israel fueron mujer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U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7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608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609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0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611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612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13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13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ntos de los Jueces de Israel fueron mujer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U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13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ntos de los Jueces de Israel fueron mujer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solidFill>
            <a:srgbClr val="0000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Un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257800" y="6019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Débora – Jueces 4:5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0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A qué rey le añadió Dios quince años más de vid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1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oá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anas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zequí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71500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abucodonos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70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671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2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673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674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75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7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A qué rey le añadió Dios quince años más de vid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1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oá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anas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zequí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715000" y="51055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Nabucodonos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5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0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1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A qué rey le añadió Dios quince años más de vid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anas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zequí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22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723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724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7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l es el capítulo más largo de la Bibli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pocalipsis 2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almo 11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ob 4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ateo 2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6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257" name="DD00758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5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726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727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28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1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A qué rey le añadió Dios quince años más de vid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anas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zequí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7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1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A qué rey le añadió Dios quince años más de vid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solidFill>
            <a:srgbClr val="0000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Ezequí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4648320" y="60199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2ªReyes 20:5-6; Isaías 38: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5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56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l de los cuatro evangelios dice que el sudor de Jesús en Getsemaní “era como grandes gotas de sangre”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15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ate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ar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Lu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u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85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786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7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788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789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90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l de los cuatro evangelios dice que el sudor de Jesús en Getsemaní “era como grandes gotas de sangre”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15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ate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ar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Lu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u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0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21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15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l de los cuatro evangelios dice que el sudor de Jesús en Getsemaní “era como grandes gotas de sangre”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ate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Lu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6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837" name="DD00758_" descr=""/>
          <p:cNvPicPr/>
          <p:nvPr/>
        </p:nvPicPr>
        <p:blipFill>
          <a:blip r:embed="rId3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1838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9" name="SO01872_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1840" name="DD00758_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pic>
        <p:nvPicPr>
          <p:cNvPr id="1841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42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15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l de los cuatro evangelios dice que el sudor de Jesús en Getsemaní “era como grandes gotas de sangre”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37160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ate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Lu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7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15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685800" y="1752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l de los cuatro evangelios dice que el sudor de Jesús en Getsemaní “era como grandes gotas de sangre”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solidFill>
            <a:srgbClr val="0000ff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Luc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4648320" y="60199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Lucas 22:4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l es el capítulo más largo de la Bibli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3962520"/>
            <a:ext cx="403848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4114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41148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Apocalipsis 2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almo 11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0060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ob 4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769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292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386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Mateo 2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6" name="SO01872_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297" name="DD00758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8001000" y="83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7543800" y="380880"/>
            <a:ext cx="1219320" cy="1219320"/>
          </a:xfrm>
          <a:prstGeom prst="ellipse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Rockwell Extra Bold"/>
              </a:rPr>
              <a:t>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1752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Rockwell"/>
              </a:rPr>
              <a:t>¿Cuál es el capítulo más largo de la Bibli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50% - 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5029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4952880"/>
            <a:ext cx="4038840" cy="76212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520" y="51055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5105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5105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5105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Salmo 11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24280" y="3962520"/>
            <a:ext cx="4038840" cy="761760"/>
          </a:xfrm>
          <a:prstGeom prst="flowChartPreparation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76920" y="4114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92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029200" y="4114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638680" y="4114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Rockwell"/>
              </a:rPr>
              <a:t>Job 4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0" name="SO01872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80880"/>
            <a:ext cx="946440" cy="835200"/>
          </a:xfrm>
          <a:prstGeom prst="rect">
            <a:avLst/>
          </a:prstGeom>
          <a:ln w="0">
            <a:noFill/>
          </a:ln>
        </p:spPr>
      </p:pic>
      <p:pic>
        <p:nvPicPr>
          <p:cNvPr id="321" name="DD00758_" descr=""/>
          <p:cNvPicPr/>
          <p:nvPr/>
        </p:nvPicPr>
        <p:blipFill>
          <a:blip r:embed="rId4"/>
          <a:stretch/>
        </p:blipFill>
        <p:spPr>
          <a:xfrm>
            <a:off x="1523880" y="380880"/>
            <a:ext cx="762120" cy="6652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18:52:04Z</dcterms:created>
  <dc:creator>J.M. DUPLESSIS</dc:creator>
  <dc:description/>
  <dc:language>en-US</dc:language>
  <cp:lastModifiedBy>J.M. Duplessis</cp:lastModifiedBy>
  <dcterms:modified xsi:type="dcterms:W3CDTF">2003-02-18T19:49:22Z</dcterms:modified>
  <cp:revision>48</cp:revision>
  <dc:subject/>
  <dc:title>1.</dc:title>
</cp:coreProperties>
</file>